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61F3E-D13A-4E3C-8388-E1D8D2141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F456E-78A1-49A6-9957-514F2BEA7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AD8D5-BDC7-4A49-83EA-D5FE881DA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B8ECF-DAF3-495C-80A5-481AFED2F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D3E2A-4788-48FB-9660-ADBB0BDF8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0531D-6005-45CF-B4C5-6DABF810D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D9191-823F-4732-88AD-30941D39D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8400C-0621-4BC0-9757-3B5FAF049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4447F-069A-434F-8901-A2B56F4B0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A0A97-0188-4F41-8D4A-936B63BA4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B2AC7-34AB-476C-B52C-37FD59E0C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CA82A-C361-4B5E-8D6E-9A20DE4CA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12A9-E5DF-43AB-86B7-F101C0A946E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3500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сновные тренды и вызовы коммуникационной индустрии</a:t>
            </a:r>
            <a:br>
              <a:rPr sz="4000"/>
            </a:br>
            <a:endParaRPr b="0" lang="en-US" sz="4000" spc="-1" strike="noStrike">
              <a:solidFill>
                <a:srgbClr val="000000"/>
              </a:solidFill>
              <a:latin typeface="Arial"/>
            </a:endParaRPr>
          </a:p>
        </p:txBody>
      </p:sp>
      <p:pic>
        <p:nvPicPr>
          <p:cNvPr id="42" name="Picture 5" descr="i?id=492b518c5c43f30aedb8386a0a8dccb5&amp;n=13"/>
          <p:cNvPicPr/>
          <p:nvPr/>
        </p:nvPicPr>
        <p:blipFill>
          <a:blip r:embed="rId1"/>
          <a:stretch/>
        </p:blipFill>
        <p:spPr>
          <a:xfrm>
            <a:off x="1187280" y="620640"/>
            <a:ext cx="4572000" cy="16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оме того, в 2022 году будет набирать силу повестка устойчивого развития. Она актуальна и сейчас — но многие компании все еще не до конца понимают, в чем заключается устойчивое развитие и как связать эту концепцию с внутренними процессам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этому чаще всего сообщения на эту тему сводятся к сообщениям о высадке деревьев около завода. Вместо этого нужно говорить об отношении к персоналу, взаимодействии с партнерами, экологичности производства, прозрачности и открытости. Все эти темы, помимо прочего, позволят сохранить контакт с аудиторией компаниям, которые в силу своей специфики испытывают дефицит инфоповодов.</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Сопротивление онлайну</a:t>
            </a:r>
            <a:br>
              <a:rPr sz="2400"/>
            </a:br>
            <a:endParaRPr b="0" lang="en-US" sz="2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нлайн-формат мероприятий стал основным вынужденно — такую необходимость продиктовала пандемия.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 все готовы его принять, и в перерывах между режимами ковидных ограничений многие ивенты стабильно возвращаются в офлайн.</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ромиссным решением здесь становится гибридный формат, при котором зрители смотрят удаленные трансляции, а спикеры выступают на специально подготовленной площадке с качественной техникой и оформлением.</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68360" y="333360"/>
            <a:ext cx="8207280" cy="64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решение позволило как минимум избежать проблем со связью у докладчиков и «домашнего» антуража, который сопровождал онлайн-мероприятия в период локдаун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о, какие форматы будут преобладать в 2022 году, офлайновые или онлайн, будет в большей степени зависеть от ситуации с ограничениями, чем от настроя компани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хорошо показывает ситуация с Всемирным экономическим форумом: в январе он прошел в онлайн-формате, а в мае планировалась очная часть в Сингапуре — но из-за ситуации с коронавирусом она была отменен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шлось перенести и следующее очное заседание с января на лето 2022 года. Вероятно, в будущем организаторам придется задуматься об онлайн-формате мероприятия.</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468360"/>
            <a:ext cx="79214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5</a:t>
            </a:r>
            <a:r>
              <a:rPr b="0" lang="ru-RU" sz="3200" spc="-1" strike="noStrike">
                <a:solidFill>
                  <a:srgbClr val="000000"/>
                </a:solidFill>
                <a:latin typeface="Arial"/>
              </a:rPr>
              <a:t>. </a:t>
            </a:r>
            <a:r>
              <a:rPr b="0" lang="ru-RU" sz="2800" spc="-1" strike="noStrike">
                <a:solidFill>
                  <a:srgbClr val="000000"/>
                </a:solidFill>
                <a:latin typeface="Arial"/>
              </a:rPr>
              <a:t>Слияние пиара и маркетинга</a:t>
            </a:r>
            <a:br>
              <a:rPr sz="2800"/>
            </a:br>
            <a:endParaRPr b="0" lang="en-US" sz="2800" spc="-1" strike="noStrike">
              <a:solidFill>
                <a:srgbClr val="000000"/>
              </a:solidFill>
              <a:latin typeface="Arial"/>
            </a:endParaRPr>
          </a:p>
        </p:txBody>
      </p:sp>
      <p:sp>
        <p:nvSpPr>
          <p:cNvPr id="61" name=""/>
          <p:cNvSpPr txBox="1"/>
          <p:nvPr/>
        </p:nvSpPr>
        <p:spPr>
          <a:xfrm>
            <a:off x="457200" y="981000"/>
            <a:ext cx="8229600" cy="511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ар и маркетинг все чаще заимствуют инструменты друг друга: например, все более частой становится практика публикации колонки в СМИ, а затем ее продвижения через таргет в соцсетях. Это помогает увеличить охват и число необходимых касаний с аудиторие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 это постепенно приводит рынок к пониманию комплиментарности пиара и маркетинга, и в описании вакансий все чаще звучат требования о наличии компетенций в обеих этих областях.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заимопроникновение этих направлений может привести к тому, что в 2022 году маркетинговые решения будут включаться в пиар-пакеты многих компаний — и наоборот. </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месте с тем расходы на пиар вырастут — на это повлияет удорожание производства контента, а также отток в пиар части маркетинговых бюджетов. </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3" name=""/>
          <p:cNvSpPr txBox="1"/>
          <p:nvPr/>
        </p:nvSpPr>
        <p:spPr>
          <a:xfrm>
            <a:off x="324000" y="1599840"/>
            <a:ext cx="8362800" cy="5141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Digital и классический P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ании всё чаще делают акцент на digital-продвижении.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гласно исследованию разработчиков платформы CPAExchange, в 2021 году доля интернет-коммуникаций в общих маркетинговых бюджетах выросла на 4,2%: с 49,5% до 53,7% в 2021 году. Ожидается, что в 2022 году этот показатель увеличится до 56,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сравнению с классическими каналами продвижения digital дает больше возможностей для аналитики охватов публикации и работы с обратной связью от пользователе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Объект 3" descr=""/>
          <p:cNvPicPr/>
          <p:nvPr/>
        </p:nvPicPr>
        <p:blipFill>
          <a:blip r:embed="rId1"/>
          <a:stretch/>
        </p:blipFill>
        <p:spPr>
          <a:xfrm>
            <a:off x="457200" y="274680"/>
            <a:ext cx="822960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одель PESO</a:t>
            </a:r>
            <a:endParaRPr b="0" lang="en-US" sz="32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ория единой коммуникационной стратегии для четырех основных каналов: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Paid media (платные публикации),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Earned (завоеванные меди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Shared (социальные меди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Owned (собственные меди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0755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вент-индустрия</a:t>
            </a:r>
            <a:endParaRPr b="0" lang="en-US" sz="4400" spc="-1" strike="noStrike">
              <a:solidFill>
                <a:srgbClr val="000000"/>
              </a:solidFill>
              <a:latin typeface="Arial"/>
            </a:endParaRPr>
          </a:p>
        </p:txBody>
      </p:sp>
      <p:sp>
        <p:nvSpPr>
          <p:cNvPr id="68" name=""/>
          <p:cNvSpPr txBox="1"/>
          <p:nvPr/>
        </p:nvSpPr>
        <p:spPr>
          <a:xfrm>
            <a:off x="457200" y="1125360"/>
            <a:ext cx="8075520" cy="5328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смотря на то, что в 2021 году большинство стран отказалось от тотальных «режимов самоизоляции», о полноценном возвращении к привычной жизни в ивент-индустрии говорить не приходится. Организация любого оффлайн-события связана с серьезными рисками.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нлайн-стриминги, запись трансляций, элементы digital-PR – без этих инструментов в 2022 году пиарщику не обойтись. Усилится и интерес к гибридным мероприятиями, одновременно проходящим на оффлайн и онлайн.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т формат начал набирать обороты еще в разгар пандемии. А в 2021 году с миксом оффлайна и онлайна начали работать буквально все: от американского фестиваля независимого кино «Сандэнс» до отраслевых выставок и крупных форумов, проходящих под эгидой государства.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гибридный формат использовали при проведении Петербургского и Восточного международных экономических форумов.</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04840" y="2788920"/>
            <a:ext cx="8470800" cy="2800440"/>
          </a:xfrm>
          <a:prstGeom prst="rect">
            <a:avLst/>
          </a:prstGeom>
          <a:noFill/>
          <a:ln w="0">
            <a:noFill/>
          </a:ln>
        </p:spPr>
        <p:txBody>
          <a:bodyPr anchor="t">
            <a:normAutofit/>
          </a:bodyPr>
          <a:p>
            <a:pPr marL="343080" indent="-343080">
              <a:spcBef>
                <a:spcPts val="601"/>
              </a:spcBef>
              <a:buClr>
                <a:srgbClr val="2b2b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b2b2b"/>
                </a:solidFill>
                <a:latin typeface="Arial"/>
              </a:rPr>
              <a:t>Микс форматов или нестандартного выбора площадки для события - серия концертов с участием звезд мировой сцены, которую с 2020 года проводят в популярной онлайн-игре Fortnite</a:t>
            </a:r>
            <a:endParaRPr b="0" lang="en-US" sz="2400" spc="-1" strike="noStrike">
              <a:solidFill>
                <a:srgbClr val="000000"/>
              </a:solidFill>
              <a:latin typeface="Arial"/>
            </a:endParaRPr>
          </a:p>
        </p:txBody>
      </p:sp>
      <p:pic>
        <p:nvPicPr>
          <p:cNvPr id="70" name="Picture 2" descr="http://mediabitch.ru/wp-content/uploads/2022/02/trendy1.png"/>
          <p:cNvPicPr/>
          <p:nvPr/>
        </p:nvPicPr>
        <p:blipFill>
          <a:blip r:embed="rId1"/>
          <a:stretch/>
        </p:blipFill>
        <p:spPr>
          <a:xfrm>
            <a:off x="3392640" y="92160"/>
            <a:ext cx="5395680" cy="270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24000" y="76464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естиваль науки Sience Bar Hopping, состоявшийся в октябре 2021 год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енеральным партнером мероприятия стал мультимедийный сервис Okko. В течение одного вечера 42 ученых прочли научно-популярные лекции в барах Москвы.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общей сложности была задействована 21 площадка. Посетителями фестиваля стали более 2 тысяч человек.</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нлайн-трансляции лекций набрали свыше 800 тысяч просмотров.</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3212640"/>
            <a:ext cx="8075520" cy="3240360"/>
          </a:xfrm>
          <a:prstGeom prst="rect">
            <a:avLst/>
          </a:prstGeom>
          <a:noFill/>
          <a:ln w="0">
            <a:noFill/>
          </a:ln>
        </p:spPr>
        <p:txBody>
          <a:bodyPr anchor="t">
            <a:normAutofit fontScale="73000"/>
          </a:bodyPr>
          <a:p>
            <a:pPr marL="250200" indent="-250200">
              <a:lnSpc>
                <a:spcPct val="100000"/>
              </a:lnSpc>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b2b2b"/>
                </a:solidFill>
                <a:latin typeface="Lato"/>
              </a:rPr>
              <a:t>Выделиться на фоне других онлайн-мероприятий помогут и коллаборации с интересными для аудитории партнерами. </a:t>
            </a:r>
            <a:endParaRPr b="0" lang="en-US" sz="1800" spc="-1" strike="noStrike">
              <a:solidFill>
                <a:srgbClr val="000000"/>
              </a:solidFill>
              <a:latin typeface="Arial"/>
            </a:endParaRPr>
          </a:p>
          <a:p>
            <a:pPr marL="250200" indent="-250200">
              <a:lnSpc>
                <a:spcPct val="100000"/>
              </a:lnSpc>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b2b2b"/>
                </a:solidFill>
                <a:latin typeface="Lato"/>
              </a:rPr>
              <a:t>Так, летом 2021 команда 4D приняла участие в организации виртуального детского лагеря Novakid Easy Breezy Camp  для онлайн-платформы обучения английскому Novakid.</a:t>
            </a:r>
            <a:endParaRPr b="0" lang="en-US" sz="1800" spc="-1" strike="noStrike">
              <a:solidFill>
                <a:srgbClr val="000000"/>
              </a:solidFill>
              <a:latin typeface="Arial"/>
            </a:endParaRPr>
          </a:p>
          <a:p>
            <a:pPr marL="250200" indent="-250200">
              <a:lnSpc>
                <a:spcPct val="100000"/>
              </a:lnSpc>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b2b2b"/>
                </a:solidFill>
                <a:latin typeface="Lato"/>
              </a:rPr>
              <a:t> </a:t>
            </a:r>
            <a:r>
              <a:rPr b="0" lang="ru-RU" sz="1800" spc="-1" strike="noStrike">
                <a:solidFill>
                  <a:srgbClr val="2b2b2b"/>
                </a:solidFill>
                <a:latin typeface="Lato"/>
              </a:rPr>
              <a:t>В течение семи недель участники кэмпа занимались английским на уроках с носителями языка, создавали поделки на мастер-классах и смотрели мультфильмы на языке оригинала.</a:t>
            </a:r>
            <a:endParaRPr b="0" lang="en-US" sz="1800" spc="-1" strike="noStrike">
              <a:solidFill>
                <a:srgbClr val="000000"/>
              </a:solidFill>
              <a:latin typeface="Arial"/>
            </a:endParaRPr>
          </a:p>
          <a:p>
            <a:pPr marL="250200" indent="-250200">
              <a:lnSpc>
                <a:spcPct val="100000"/>
              </a:lnSpc>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b2b2b"/>
                </a:solidFill>
                <a:latin typeface="Lato"/>
              </a:rPr>
              <a:t> </a:t>
            </a:r>
            <a:r>
              <a:rPr b="0" lang="ru-RU" sz="1800" spc="-1" strike="noStrike">
                <a:solidFill>
                  <a:srgbClr val="2b2b2b"/>
                </a:solidFill>
                <a:latin typeface="Lato"/>
              </a:rPr>
              <a:t>Партнером лагеря стала студия анимации «Союзмультфильм», предоставившая коллекцию эпизодов избранных мультсериалов. Специально для кэмпа контент был локализован на английский язык.</a:t>
            </a:r>
            <a:endParaRPr b="0" lang="en-US" sz="1800" spc="-1" strike="noStrike">
              <a:solidFill>
                <a:srgbClr val="000000"/>
              </a:solidFill>
              <a:latin typeface="Arial"/>
            </a:endParaRPr>
          </a:p>
          <a:p>
            <a:pPr marL="250200" indent="-250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1a62a"/>
                </a:solidFill>
                <a:latin typeface="inherit"/>
              </a:rPr>
              <a:t>   </a:t>
            </a:r>
            <a:r>
              <a:rPr b="0" lang="ru-RU" sz="3200" spc="-1" strike="noStrike">
                <a:solidFill>
                  <a:srgbClr val="41a62a"/>
                </a:solidFill>
                <a:latin typeface="inherit"/>
              </a:rPr>
              <a:t>                                                                                                                                                                                                               </a:t>
            </a:r>
            <a:endParaRPr b="0" lang="en-US" sz="3200" spc="-1" strike="noStrike">
              <a:solidFill>
                <a:srgbClr val="000000"/>
              </a:solidFill>
              <a:latin typeface="Arial"/>
            </a:endParaRPr>
          </a:p>
          <a:p>
            <a:pPr marL="250200" indent="-250200">
              <a:lnSpc>
                <a:spcPct val="100000"/>
              </a:lnSpc>
              <a:spcBef>
                <a:spcPts val="799"/>
              </a:spcBef>
              <a:buClr>
                <a:srgbClr val="41a62a"/>
              </a:buClr>
              <a:buFont typeface="inher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2" descr="http://mediabitch.ru/wp-content/uploads/2022/02/trendy2.png"/>
          <p:cNvPicPr/>
          <p:nvPr/>
        </p:nvPicPr>
        <p:blipFill>
          <a:blip r:embed="rId1"/>
          <a:stretch/>
        </p:blipFill>
        <p:spPr>
          <a:xfrm>
            <a:off x="179280" y="0"/>
            <a:ext cx="5292720" cy="26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4" name="Picture 5" descr="Исследование АКОС"/>
          <p:cNvPicPr/>
          <p:nvPr/>
        </p:nvPicPr>
        <p:blipFill>
          <a:blip r:embed="rId1"/>
          <a:stretch/>
        </p:blipFill>
        <p:spPr>
          <a:xfrm>
            <a:off x="395280" y="836640"/>
            <a:ext cx="8353440" cy="4786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бота с блогерами: нативность и отказ от селебрити</a:t>
            </a:r>
            <a:br>
              <a:rPr sz="2800"/>
            </a:br>
            <a:endParaRPr b="0" lang="en-US" sz="28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трудничество с блогерами за последние годы стало мейнстримом. И в 2022 году маркетинг влияния останется на повестке дня в PR.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 этом фокус внимания продолжит смещаться с блогеров-миллионников и селебрити на микро- и нано-инфлюенсеров.  Несмотря на отсутствие сотен тысяч подписчиков, они имеют более серьезное влияние в своих нишах и вызывают больше доверия у аудитории за счет того, что такие интеграции зачастую воспринимаются как дружеские советы. Здесь популярность набирают долгосрочное сотрудничество и нативная реклама.</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3357720"/>
            <a:ext cx="8424720" cy="3311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пример, агентство 4D организовало акцию «Летние винопробы» для продвижения авторской Instagram-маски с рандомайзером фильмов и сериалов, рекомендованных к просмотру под бокал вина сети винотек Simple.</a:t>
            </a:r>
            <a:br>
              <a:rPr sz="1600"/>
            </a:br>
            <a:r>
              <a:rPr b="1" lang="ru-RU" sz="1600" spc="-1" strike="noStrike">
                <a:solidFill>
                  <a:srgbClr val="000000"/>
                </a:solidFill>
                <a:latin typeface="Arial"/>
              </a:rPr>
              <a:t>В кампании приняли участие 12 инфлюенсеров, которые выкладывали сторис с видео и предлагали подписчикам последовать их примеру. Всего было инициировано 38 сторис, по итогам которых за неделю маской воспользовались 623 человека.</a:t>
            </a:r>
            <a:br>
              <a:rPr sz="1600"/>
            </a:br>
            <a:r>
              <a:rPr b="1" lang="ru-RU" sz="1600" spc="-1" strike="noStrike">
                <a:solidFill>
                  <a:srgbClr val="000000"/>
                </a:solidFill>
                <a:latin typeface="Arial"/>
              </a:rPr>
              <a:t>По меркам блогеров-миллионников такую конверсию можно считать небольшой. Тем не менее, привлеченная аудитория точнее попала в ЦА бренда (молодые люди из Москвы и Петербурга, знающие толк в качественном досуге и напитках) при меньших затратах на кампанию.</a:t>
            </a:r>
            <a:br>
              <a:rPr sz="1600"/>
            </a:br>
            <a:endParaRPr b="0" lang="en-US" sz="1600" spc="-1" strike="noStrike">
              <a:solidFill>
                <a:srgbClr val="000000"/>
              </a:solidFill>
              <a:latin typeface="Arial"/>
            </a:endParaRPr>
          </a:p>
        </p:txBody>
      </p:sp>
      <p:pic>
        <p:nvPicPr>
          <p:cNvPr id="77" name="Объект 3" descr=""/>
          <p:cNvPicPr/>
          <p:nvPr/>
        </p:nvPicPr>
        <p:blipFill>
          <a:blip r:embed="rId1"/>
          <a:stretch/>
        </p:blipFill>
        <p:spPr>
          <a:xfrm>
            <a:off x="539640" y="4680"/>
            <a:ext cx="5400720" cy="34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ыть везде</a:t>
            </a:r>
            <a:br>
              <a:rPr sz="3200"/>
            </a:br>
            <a:endParaRPr b="0" lang="en-US" sz="32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м больше человек привязывается к гаджетам, тем больше информации ему приходится потреблять, и тем сильнее сопротивляется мозг.  Фильтруя небольшой процент по-настоящему важной информации, он попросту блокирует все остальное. Сегодня для установки контакта с пользователем бренду требуется до 10 точек касания. И чем разнообразнее будут источники касаний, тем больше шансов побороть «белый шум» в головах у аудитори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циальные сети, блоги, СМИ, стриминговые сервисы, email-рассылки и мессенджеры – сегодня бренду важно быть везде и сразу.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чем не просто присутствовать, а осознанно использовать разные каналы, правильно расставляя приоритеты и быстро перенимая новые «фишки» уже используемых площадок, как Reels или кликабельные ссылки в Insta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404280"/>
            <a:ext cx="8229600" cy="5721480"/>
          </a:xfrm>
          <a:prstGeom prst="rect">
            <a:avLst/>
          </a:prstGeom>
          <a:noFill/>
          <a:ln w="0">
            <a:noFill/>
          </a:ln>
        </p:spPr>
        <p:txBody>
          <a:bodyPr anchor="t">
            <a:normAutofit/>
          </a:bodyPr>
          <a:p>
            <a:pPr marL="343080" indent="-343080">
              <a:lnSpc>
                <a:spcPct val="100000"/>
              </a:lnSpc>
              <a:spcBef>
                <a:spcPts val="349"/>
              </a:spcBef>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b2b2b"/>
                </a:solidFill>
                <a:latin typeface="Lato"/>
              </a:rPr>
              <a:t>перспективным направлением для PR-активностей и рекламы стали  метавселенные. Бренды размещают в виртуальных мирах рекламу, организуют ивенты и строят брендированные города.</a:t>
            </a:r>
            <a:endParaRPr b="0" lang="en-US" sz="1400" spc="-1" strike="noStrike">
              <a:solidFill>
                <a:srgbClr val="000000"/>
              </a:solidFill>
              <a:latin typeface="Arial"/>
            </a:endParaRPr>
          </a:p>
          <a:p>
            <a:pPr marL="343080" indent="-343080">
              <a:lnSpc>
                <a:spcPct val="100000"/>
              </a:lnSpc>
              <a:spcBef>
                <a:spcPts val="349"/>
              </a:spcBef>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b2b2b"/>
                </a:solidFill>
                <a:latin typeface="Lato"/>
              </a:rPr>
              <a:t> </a:t>
            </a:r>
            <a:r>
              <a:rPr b="0" lang="ru-RU" sz="1400" spc="-1" strike="noStrike">
                <a:solidFill>
                  <a:srgbClr val="2b2b2b"/>
                </a:solidFill>
                <a:latin typeface="Lato"/>
              </a:rPr>
              <a:t>Nikeland, созданный компанией Nike на базе многопользовательской игровой платформы Roblox. Или тематический парк с концертной площадкой, которые Warner Music Group планирует «построить» в метавселенной The Sandbox.</a:t>
            </a:r>
            <a:endParaRPr b="0" lang="en-US" sz="1400" spc="-1" strike="noStrike">
              <a:solidFill>
                <a:srgbClr val="000000"/>
              </a:solidFill>
              <a:latin typeface="Arial"/>
            </a:endParaRPr>
          </a:p>
          <a:p>
            <a:pPr marL="343080" indent="-343080">
              <a:lnSpc>
                <a:spcPct val="100000"/>
              </a:lnSpc>
              <a:spcBef>
                <a:spcPts val="349"/>
              </a:spcBef>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Rectangle 1"/>
          <p:cNvSpPr/>
          <p:nvPr/>
        </p:nvSpPr>
        <p:spPr>
          <a:xfrm>
            <a:off x="-2052720" y="1874160"/>
            <a:ext cx="10045800" cy="5989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b2b2b"/>
                </a:solidFill>
                <a:latin typeface="Lato"/>
              </a:rPr>
              <a:t> </a:t>
            </a:r>
            <a:r>
              <a:rPr b="0" lang="ru-RU" sz="39300" spc="-1" strike="noStrike">
                <a:solidFill>
                  <a:srgbClr val="41a62a"/>
                </a:solidFill>
                <a:latin typeface="inherit"/>
              </a:rPr>
              <a:t> </a:t>
            </a:r>
            <a:r>
              <a:rPr b="0" lang="ru-RU" sz="1200" spc="-1" strike="noStrike">
                <a:solidFill>
                  <a:srgbClr val="41a62a"/>
                </a:solidFill>
                <a:latin typeface="inherit"/>
              </a:rPr>
              <a:t>                                                                                                                                                                                                 </a:t>
            </a:r>
            <a:endParaRPr b="0" lang="en-US" sz="1200" spc="-1" strike="noStrike">
              <a:solidFill>
                <a:srgbClr val="000000"/>
              </a:solidFill>
              <a:latin typeface="Arial"/>
            </a:endParaRPr>
          </a:p>
        </p:txBody>
      </p:sp>
      <p:pic>
        <p:nvPicPr>
          <p:cNvPr id="82" name="Picture 2" descr="http://mediabitch.ru/wp-content/uploads/2022/02/trendy4.png"/>
          <p:cNvPicPr/>
          <p:nvPr/>
        </p:nvPicPr>
        <p:blipFill>
          <a:blip r:embed="rId1"/>
          <a:stretch/>
        </p:blipFill>
        <p:spPr>
          <a:xfrm>
            <a:off x="3378240" y="2276640"/>
            <a:ext cx="4960800" cy="372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ркетинг и PR продолжат слияние</a:t>
            </a:r>
            <a:br>
              <a:rPr sz="2400"/>
            </a:br>
            <a:endParaRPr b="0" lang="en-US" sz="2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 каждым годом эти направления все теснее переплетаются друг с другом. Чтобы заявить о себе, аудиторию придется окружить на 360 градусов. И добиться этого удастся только за счет консолидации маркетинга и P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этом в зависимости от целей, одно направление усиливает эффект от второго. И наоборот. Например, рост медиа-индекса компании позволит прогреть интерес потенциальных клиентов, сократив при этом траты на рекламу. А дополнительно продвижение конкретной публикации о компании поможет увеличить охваты, а значит, и количество касаний с аудиторие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дачей любой коммуникации становится построение и укрепление знания о бренде, а также повышение лояльности со стороны аудитории. И здесь важно понимать, что зачастую человек ассоциирует бренд не с тем, что он на самом деле из себя представляет, а с теми источниками, где ему встречалась информация о нем. Чем больше источников, и чем более авторитетными они оказываются в глазах человека, тем больше оснований доверять компании. Поэтому маркетинговые активности всегда должны идти рука об руку со своевременным пиаром.</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овый подход к анализу данных</a:t>
            </a:r>
            <a:br>
              <a:rPr sz="2800"/>
            </a:br>
            <a:endParaRPr b="0" lang="en-US" sz="28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ндемия поставила крест на традиционном анализе данных, когда мы просто сравнивали информацию по нужным временным периодам. Сравнивать тогда и сейчас больше не имеет смысла. Картина до 2020 года слишком отличается от сегодняшней картины.</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мену простой аналитике по хронологии приходит более глубокий, тонкий и тщательный анализ данных, в основе которого лежат поведенческие паттерны клиентов. Для анализа целевой аудитории можно задействовать специальные сервисы. Например, LeadSift, SocialBoard, Net Base или отечественные Lead Scanner или Socparsing. Они позволяют составить «досье» на посетителей сайта (в том числе и на тех, кто не совершил никаких действий),  отследить поведение потенциальных лидов в социальных сетях, выявить те товары и услуги, которые востребованы у целевой аудитори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езопасность</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2022 году Google прекратит отслеживать cookie. Об этом решении корпорация объявила еще три года назад, и теперь, наконец, приступила к его реализации. С точки зрения пользователей инициатива вполне оправданна: проблема сбора и хранения личных данных сегодня волнует многих. Брендам же придется искать пути обхода нововведений, например, за счет построения более доверительных отношений с аудиторие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льтернативой могут стать First-party и zero-party cookies. При первом варианте собирать данные о пользователе можно во время его нахождения на сайте. Второй вариант подразумевает получение информации за счет прямого контакта. Например, в формате опросов или эксклюзивного доступа к контенту, который пользователь сможет получить в обмен на личные данны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перативная реакция на изменения</a:t>
            </a:r>
            <a:br>
              <a:rPr sz="3200"/>
            </a:br>
            <a:endParaRPr b="0" lang="en-US" sz="32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Значение скорости реакции на меняющиеся обстоятельства – еще один урок пандемии. Вне зависимости от того, как быстро меняются исходные данные, PR-специалист должен мгновенно адаптироваться к новым правилам игры. Осваивать новые инструменты, искать свежие идеи, подхватывать тренды «сейчас», а не «завтра». Потому что завтра уже будет поздно.</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Здесь стоит вспомнить феномен Clubhouse. Несмотря на то, что хайп вокруг него быстро сошел на нет, некоторые бренды – Mail.ru Group, «Яндекс» и ВТБ успели задействовать новую соцсеть. Кроме того Clubhouse стал драйвером роста для аудиоконтента: в 2021 году голосовые чаты появились в Twitter и Telegram, а Facebook внедрил аудиокомнаты.</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кренность и открытость</a:t>
            </a:r>
            <a:br>
              <a:rPr sz="2800"/>
            </a:b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О роли тесного эмоционального контакта и открытости бренда для аудитории говорят давно. Но пандемия с ее обилием фейковых новостей усилила потребность людей в достоверной информац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стность также важна в конфликтных ситуациях. Игнорируя критику в соцсетях или ограничиваясь стандартными отписками «под копирку», компания рискует понести репутационные потери. Зато стремление открыто решить проблему и добавить искренности в общение с клиентом положительно скажется на имидже бренд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5" descr="Исследование АКОС"/>
          <p:cNvPicPr/>
          <p:nvPr/>
        </p:nvPicPr>
        <p:blipFill>
          <a:blip r:embed="rId1"/>
          <a:stretch/>
        </p:blipFill>
        <p:spPr>
          <a:xfrm>
            <a:off x="611280" y="608040"/>
            <a:ext cx="8532720" cy="584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мы равенства и инклюзивности в 2021 году стали важной частью глобальной социальной повестки. Покупатель хочет знать, какую позицию бренд занимает по тому или иному политическому или социальному вопросу. И ждет, чтобы ценности компании отвечали его личным ценностям. Согласно </a:t>
            </a:r>
            <a:r>
              <a:rPr b="0" lang="ru-RU" sz="2000" spc="-1" strike="noStrike" u="sng">
                <a:solidFill>
                  <a:srgbClr val="000000"/>
                </a:solidFill>
                <a:uFillTx/>
                <a:latin typeface="Arial"/>
              </a:rPr>
              <a:t>исследованию Ipsos</a:t>
            </a:r>
            <a:r>
              <a:rPr b="0" lang="ru-RU" sz="2000" spc="-1" strike="noStrike">
                <a:solidFill>
                  <a:srgbClr val="000000"/>
                </a:solidFill>
                <a:latin typeface="Arial"/>
              </a:rPr>
              <a:t>, 86% пользователей считают, что компании должны высказываться по социальным вопросам. Без четкой политики по вопросам инклюзивности и равенства, бренд рискует застрять в прошлом.  Проработка позиции компании не в последнюю очередь ложится и на плечи PR-специалисто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ESG</a:t>
            </a:r>
            <a:br>
              <a:rPr sz="3600"/>
            </a:br>
            <a:endParaRPr b="0" lang="en-US" sz="36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ще один мировой тренд в PR – ESG или Environmental, Social, and Governance («Экологическое, социальное и корпоративное управление»). Согласно исследованию dentsu Russia, в 2021 году российские бренды направляли до 3% рекламных бюджетов на реализацию кампаний, связанных с темой устойчивого развития.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2022 году эта цифра может достигнуть 5%. Экологические и социальные инициативы активно поддерживают IKEA, PepsiCo, Сбер, Nestlé, X5 Group, VK, «Яндекс» и другие крупные корпораци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Исследование АКОС"/>
          <p:cNvPicPr/>
          <p:nvPr/>
        </p:nvPicPr>
        <p:blipFill>
          <a:blip r:embed="rId1"/>
          <a:stretch/>
        </p:blipFill>
        <p:spPr>
          <a:xfrm>
            <a:off x="0" y="0"/>
            <a:ext cx="9144000" cy="637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ститут изучения журналистики агентства Reuter</a:t>
            </a:r>
            <a:br>
              <a:rPr sz="2000"/>
            </a:br>
            <a:r>
              <a:rPr b="0" lang="ru-RU" sz="2000" spc="-1" strike="noStrike">
                <a:solidFill>
                  <a:srgbClr val="000000"/>
                </a:solidFill>
                <a:latin typeface="Arial"/>
              </a:rPr>
              <a:t>прогноз - главные тенденции в мире медиа:</a:t>
            </a:r>
            <a:br>
              <a:rPr sz="2000"/>
            </a:br>
            <a:endParaRPr b="0" lang="en-US" sz="20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писная модель и платное членство</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Подкасты, рассылки и короткое видео</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монетизировать аудиторию с помощью подписных и членских продуктов, издателям нужно привлекать больше читателей, зрителей и слушателей.</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повысить вовлеченность аудитории, четыре из пяти опрошенных издателей планируют инвестировать в подкасты и другое цифровое аудио, за ними следуют информационные бюллетени (70%) и форматы цифрового видео (63%).</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коло половины опрошенных издателей планируют уделить больше внимания Instagram, TikTok и YouTube и меньше внимания уделять Twitter и Facebook</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Большие медиа будут переманивать таланты с платфор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Гибридная работ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Больше решений, меньше конфронтацииъ</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6. Вопросы безопасност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Сообщения об изменении климат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 Платформы и регулировани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9. Искусственный интеллект и метавселенна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оп-5 трендов в пиаре на 2022 год:</a:t>
            </a:r>
            <a:br>
              <a:rPr sz="2000"/>
            </a:br>
            <a:r>
              <a:rPr b="1" lang="ru-RU" sz="2000" spc="-1" strike="noStrike">
                <a:solidFill>
                  <a:srgbClr val="000000"/>
                </a:solidFill>
                <a:latin typeface="Arial"/>
              </a:rPr>
              <a:t>декабрь 2021</a:t>
            </a:r>
            <a:br>
              <a:rPr sz="2000"/>
            </a:br>
            <a:r>
              <a:rPr b="0" lang="ru-RU" sz="2000" spc="-1" strike="noStrike">
                <a:solidFill>
                  <a:srgbClr val="000000"/>
                </a:solidFill>
                <a:latin typeface="Arial"/>
              </a:rPr>
              <a:t>Александр Изряднов, сооснователь агентства Vinci PR</a:t>
            </a:r>
            <a:endParaRPr b="0" lang="en-US" sz="2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Диверсификация и открытость коммуникаций – все площадки, эмоциональный  контакт, наращивание ифопотока, новые форматы (на смену лонгридам придет «тиктокизация» контента — короткие материалы, построенные на идентичных подходах, по принципу видеочелленджей в TikTo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274320"/>
            <a:ext cx="80755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R</a:t>
            </a:r>
            <a:r>
              <a:rPr b="1" lang="ru-RU" sz="2800" spc="-1" strike="noStrike">
                <a:solidFill>
                  <a:srgbClr val="000000"/>
                </a:solidFill>
                <a:latin typeface="Arial"/>
              </a:rPr>
              <a:t> в </a:t>
            </a:r>
            <a:r>
              <a:rPr b="1" lang="en-US" sz="2800" spc="-1" strike="noStrike">
                <a:solidFill>
                  <a:srgbClr val="000000"/>
                </a:solidFill>
                <a:latin typeface="Arial"/>
              </a:rPr>
              <a:t>PR – </a:t>
            </a:r>
            <a:r>
              <a:rPr b="1" lang="ru-RU" sz="2800" spc="-1" strike="noStrike">
                <a:solidFill>
                  <a:srgbClr val="000000"/>
                </a:solidFill>
                <a:latin typeface="Arial"/>
              </a:rPr>
              <a:t>коммуникации извне</a:t>
            </a:r>
            <a:endParaRPr b="0" lang="en-US" sz="2800" spc="-1" strike="noStrike">
              <a:solidFill>
                <a:srgbClr val="000000"/>
              </a:solidFill>
              <a:latin typeface="Arial"/>
            </a:endParaRPr>
          </a:p>
        </p:txBody>
      </p:sp>
      <p:sp>
        <p:nvSpPr>
          <p:cNvPr id="53" name=""/>
          <p:cNvSpPr txBox="1"/>
          <p:nvPr/>
        </p:nvSpPr>
        <p:spPr>
          <a:xfrm>
            <a:off x="457200" y="1052280"/>
            <a:ext cx="8229600" cy="5545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 HR-коммуникация «извне» есть целый ряд преимуществ перед традиционно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первых, она с большей долей вероятности достигнет пользователя, поскольку больше шансов дотянуться до него с помощью правильно подобранной площадки и таргета, чем через новостную ленту на корпоративном портал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вторых, доверие к информации из внешнего источника намного выше: одно дело — получить письмо от HR-менеджера, и совсем другое — прочитать интервью со своим директором в Forbes. В-третьих, так компания получает доступ не только к текущим, но и к потенциальным сотрудника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нешняя коммуникация дает сотрудникам компании готовые сообщения, которые они могут использовать в качестве амбассадоров бренд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Трансформация методов крупных корпораций</a:t>
            </a:r>
            <a:br>
              <a:rPr sz="2400"/>
            </a:br>
            <a:endParaRPr b="0" lang="en-US" sz="2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раньше крупным корпорациям, постоянно находящимся в фокусе федеральных СМИ, достаточно было отправлять релизы, отвечать на запросы о комментариях и изредка публиковать платные интервью — сегодня такие методы перестают работать.</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езличенный tone of voice не обеспечивает эмоционального контакта с пользователями, а ограниченный пул площадок не дает максимального охвата аудитории. Тем более что огромная ее часть — даже бизнесовый и государственный сегменты — постепенно перетекают в «Телеграм».</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приводит корпорации к необходимости кардинально менять свои подходы к коммуникациям. В первую очередь — диверсифицировать каналы, разбавив традиционные источники новыми медиа, соцсетями, постами блогеров, подкастами и другими форматами, которые раньше казались крупному бизнесу несолидными: если не говорить с аудиторией там, где она бывает, можно быстро выпасть из повестк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9-01T19:46:47Z</dcterms:created>
  <dc:creator>admin</dc:creator>
  <dc:description/>
  <dc:language>en-US</dc:language>
  <cp:lastModifiedBy>User</cp:lastModifiedBy>
  <dcterms:modified xsi:type="dcterms:W3CDTF">2022-09-26T14:50:12Z</dcterms:modified>
  <cp:revision>21</cp:revision>
  <dc:subject/>
  <dc:title>основные тренды и вызовы коммуникационной индустрии</dc:title>
</cp:coreProperties>
</file>