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4A1-1D29-4760-928B-0D0DAE6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B7A-83A4-4ECA-9DE8-B2D55AC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1B8-8252-4284-975B-3D61A4D3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272-5488-42CB-953E-E845F01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8D2-8665-4ACE-A035-BCF0998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5FEE-B357-45F7-90CC-9458415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2DA-9B55-45CF-88AA-35E5F77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DD1B-6305-4CAA-A8FC-F8156419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A0B-F9CA-4F6C-AC6E-6E37C2B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946E-53FC-4B0E-9E33-BA5C4A0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AB9-A30C-4852-9E68-1F8246D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E7A-432D-4244-9D6D-0483F134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079E-4790-4C31-A9A3-7620F8B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3A01-B2B1-4A9D-93DD-4367EAF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5CC-FEBA-4D0E-8038-CE3640A9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6D6-5D6F-451C-9B0C-9CF64D5E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0FE0-682D-49D9-9DCB-F3917B18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21E-9824-43F4-AC3D-C2AD386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297-A2EE-46D4-96DB-8C8A785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91E-B9E0-417D-B4D2-698E27D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1F-E9AF-4EF0-931C-110F0850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E22-CBFE-43F1-AAEC-347C090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ECE-5051-425A-8D33-9F969272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26F-BBDD-40DE-AF7B-CA2C6AC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0B7-1B3D-4626-AA03-B33ED6EE20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B6C-1DA9-422A-92F8-95280F2FA02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вязи с общественностью в кризисных ситуациях.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Управление проблемами и конфликтам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Селективная идентификац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я в состоянии заниматься разрешением лишь нескольких проблем. Поэтому в центре внимания все время нужно держать от 5 до 10 конкретных проблем, которые являются жизненно важными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Внимание к сильным и слабым местам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инство предполагаемых заранее проблем, с одной стороны, предоставляют организации шансы для своего укрепления, использования резервов, с другой - содержат угроз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.  Планирование в направлении «Извне внутрь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нешняя среда, а не внутренняя стратегия обуславливает селекцию приоритетных проблем. То есть управление проблемами обусловлено внешними фактор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. Ориентация на получение пользы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ель управления проблемами - защита организации от воздействия внешних факторов и усиление ее деловой активности за счет нейтрализации факторов, составляющих угрозу тем преимуществам, которыми она располага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6. Составление графика действий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дентификация и упорядочение возникающих проблем, общая политика, программа и график разрешения пробл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7. Поддержка со стороны руководств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ез санкций основного руководителя одобрение и осуществление управления проблемами в пределах организации невозмож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уск заявления, представляющего факты так, как они известны, и представление его в медиа и внутри орг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редоставление свежей информации по мере развития ситуации и появления новых све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пользование самых быстрых средств коммуникации из доступных — социальные сети, мессенджеры и т.п. для распространения информации как во внешнюю среду, так и внутри организации. Распространяя информацию в СМИ, в серьезных ситуациях приоритет следует отдать крупнейшим, которые сделают большую часть работы службы ПР бесплатно, если ситуация достаточно серьез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редоставление достаточного числа каналов для запросов информации извне; с использованием дополнительных линий связ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Антикризисный P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мероприятий по прогнозированию, недопущению или преодолению кризиса репут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изис репутации (reputation crisis, credibility crisis, confidence crisis)– ситуация, угрожающая падением репутации или кредитоспособности организации в результате огласки или иного распространения негативной информации среди заинтересованных лиц (stakeholder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интересованные лица – любая группа людей, которая может повлиять на благополучие организации (наемный персонал, управляющие, акционеры, потребители, поставщики, кредиторы, СМИ, местные жители, местные власти, надзорные органы и др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цесс кризисного управления можно разделить на три этап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к кризи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ции на кризи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е его последствия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ыявление проблем, которые могут стать кризисом. Затем идентификация источника кризиса, возможно, не связанного с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Определение реакции, на основе создания кризисного плана и команды управления кризи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Идентификация ключевых аудиторий и подготовка коммуникаций, нацеленных на эти аудитории во время критических первых дней кризиса. Реакция в первые часы кризиса особенно важ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пределение точки управления кризисом. Это может быть центральный или региональный офис, что обусловлено концентрацией основных ресурсов ПР на том или другом уровне. В одних компаниях — это головной офис, в других, наоборот, — службы отд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Определение дублеров для ключевого штата. В конкретный момент нужный человек может оказаться болен или длительно отсутствовать. Поэтому система замен должна быть надежной для любых потряс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Подготовка процедур на случай чрезвычайных ситуаций методом моделир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Подготовка всех лиц, потенциально интересных прессе, к работе с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Создание системы легкой достижимости высших менеджеров для головного оф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едоставление инструкций по управлению кризисом для всех, потенциально вовлеченных в него. Эти люди должны располагать точкой зрения компании по важнейшим проблемам, а также списком домашних телефонов потенциальных менеджеров криз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одготовка поддержки пресс-офиса, служб отношений с потребителями, управления человеческими ресурсами, а также консульта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Идентификация: какие проблемы могут возникнуть, исходя из специфики отрасли или масштаба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Расстановка приоритетов/классификация: какие из данных рисков могут причинить значительный ущерб репутации или деятельности компании, если ими не управлять эффекти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Мониторинг: как данная проблема развивается ежемесячно или даже ежедне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одготовка: как мы можем предсказать направление развития ситуации и разработать план действ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Действие: какие шаги мы можем предпринять для того, чтобы изменить направление развития пробле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Реакция на проблему/кризис: как реагировать, если проблема перейдет в кризис, угрожающий бизнесу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ценка: эффективно ли мы реагировали на проблему, предотвращая ее эволюцию в кризис? Какие уроки мы вынес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Реклассификация: уменьшилась ли острота проблемы с течением времени? Является ли она все еще прогрессирующей угрозо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редвидение проблем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сс управления проблемами требует предвидения за 1,5-3 года до возможного перерастания в кризис. То есть это еще не планирование мер по преодолению кризиса и не планирование выхода их кризиса, а предкризисное планирова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3:07:15Z</dcterms:created>
  <dc:creator>XTreme</dc:creator>
  <dc:description/>
  <dc:language>en-US</dc:language>
  <cp:lastModifiedBy>Дружба Ольга Владимировна</cp:lastModifiedBy>
  <dcterms:modified xsi:type="dcterms:W3CDTF">2022-11-17T12:07:50Z</dcterms:modified>
  <cp:revision>16</cp:revision>
  <dc:subject/>
  <dc:title>PR управление кризисом и</dc:title>
</cp:coreProperties>
</file>