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9B9-C0CB-4AB4-8527-3CB2F2AB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F3B-31B9-4025-93C0-DB7086BB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ECD-7370-44C8-8E93-B133E626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07B-727A-4FEA-B661-A582582C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3539-D4DF-42E2-B257-2EAADF5D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3DD-1EAF-436F-B7D4-596A3CC8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0182-79F3-4A0F-B43D-B2E993E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6FB8-E74D-4B35-B921-ED64BDDA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69FB-7E09-405C-9F4F-9BC48E78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179F-5D1D-4348-85F9-254E3139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E2C-19E7-4386-95A4-3A3E2DFF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927-484A-483A-97D1-32F102A7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65BF-1890-475A-A47C-089ABEA7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0267-77B1-4E53-B104-2E06B766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F0E6-3BF6-4C47-9D6B-76241580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C7AA-304F-47DA-B98A-09145CB9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8623-72C8-48CE-A7EF-84D2D51D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8317-12CD-4C7C-A472-7DEF6881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3B50-5662-41D7-90B7-9C7F14B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0194-6FFA-42E5-89D0-ADC0A4BE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22A1-7A47-4A60-AA7C-B54CF5C8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0B8E-8941-4957-A872-D9EECE60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087-9462-4C25-A130-6E5D28C0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3ACF-F788-443A-8193-BA85F18B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D7D0-8950-473F-8A86-D353249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24AD-79EE-4BD8-8390-586E08EF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A50B-A15A-434E-B7B6-7995080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42EC-46BF-4C9E-A3A6-7531159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8DE6-174E-4CD6-8807-7D0C108F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EBAC-7679-4F06-A0B1-7ABAE4FB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A2EA-7B55-4B0A-983D-3AF2B0C1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A479-0CBF-43FA-8715-0FFCE041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CBF31-B980-4C76-8B78-A1F68AFF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521-3076-4622-A762-6C45BCBB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6A22-942C-4331-AF4E-3A93C4DB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9A67-F61D-40E7-94BA-5AA7173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DDF5-7DC6-4890-AE13-E6B1C6C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5FF9-72FF-4853-B033-D2D5CF3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16B6-7364-4BCA-A808-3501F63D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211A-9528-4A8B-A778-77D36FF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0F92-8831-4B4B-99A1-D21BDB7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6F25-6624-418B-A226-F8AD24F7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190D-FE44-41CF-A89F-584A42DE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DC18-ED34-477B-AD14-B7207A57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C5A-612F-47C6-A97F-101FCE7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3451-05A6-4B97-A9DB-B6E2E309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6DA2D-5E6A-4973-BE19-F126ECE2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5FF2-92CF-4AB2-84E5-ABE21493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EF452-B739-42B0-BD26-DAB48D7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A0657-435C-4EA2-A60A-C18990DB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BC36-B61F-4E1C-B672-26E6BE4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B1A12-0811-4D47-9966-7BCF877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1211D-6229-4C2B-9BEA-B775B4C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1810-4190-4946-B673-84475C49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2A0BD-EC55-41CD-BDF2-46C1332F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9F6-159D-4562-BE14-A7891EF7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06248-AD75-4A2E-B5CC-784A976C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DD9-7ABB-46D5-9C69-4397377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544-13F8-4BFC-A68C-4A311054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588-5255-4C1D-8A91-5FB115C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9511-683A-466C-9155-0D13C45DF38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493B-19DB-4048-9570-29E1DA6B190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6741-299F-4924-8732-47D8B441563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D264-B98D-4E79-BAFE-16356684916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3A5E-E22E-4E60-99EC-7A59A95BE4F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93440" y="1125360"/>
            <a:ext cx="655020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Arial"/>
              </a:rPr>
              <a:t>Антикризисный </a:t>
            </a:r>
            <a:r>
              <a:rPr b="1" i="1" lang="en-US" sz="3600" spc="-1" strike="noStrike">
                <a:solidFill>
                  <a:srgbClr val="262626"/>
                </a:solidFill>
                <a:latin typeface="Arial"/>
              </a:rPr>
              <a:t>PR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Теория кризисов: определение, типология, причины возникновения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ы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язательный компонент нашей жизн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икто не застрахован от кризис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 только угроза организации, но и шанс улучшить ее репутац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Impact"/>
              </a:rPr>
              <a:t>конфликт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инамический тип социальных взаимоотношений, произрастающих из потенциально возможных или реальных столкновений субъектов на почве тех или иных противоречиво осознаваемых предпочтений, интересов или ценностей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стоянно присутствующий и не поддающийся устранению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Impact"/>
              </a:rPr>
              <a:t>Типология кризисов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ассификация кризисов зависит от того, какой критерий мы выбирае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ожиданные кризисы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Происходят настолько внезапно и неожиданно, что остается очень мало или совсем не бывает времени для подготовки и планирования (авиакатастрофа, смерть ведущего руководителя и т.п.). Такие кризисы требуют заблаговременного согласования между руководителями плана действий, который позволили бы избежать недоразумений и неоперативности реагирования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ревающие кризисы. Больше времени для планирования и изучения, но могут разразиться моментально после длительного брожения (неудовлетворение работников, неблагоприятный моральный климат и т.п.)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прерывные кризисы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. Могут длиться месяцами или годами (сплетни, слухи, спекуляции)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1040" y="228240"/>
            <a:ext cx="739296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типы 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организационных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кризисов: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1640" y="1773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303030"/>
                </a:solidFill>
                <a:uFillTx/>
                <a:latin typeface="Times New Roman"/>
              </a:rPr>
              <a:t>Неожиданные кризисы</a:t>
            </a: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 (чрезвычайные происшествия: различного вида катастрофы, смерть ведущего служащего, пожары, паника в учреждении и т.д.) – наиболее опасный вид кризисов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Они случаются так внезапно и неожиданно, что остается немного времени или его почти нет для исследования и планирования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262626"/>
                </a:solidFill>
                <a:uFillTx/>
                <a:latin typeface="Impact"/>
              </a:rPr>
              <a:t>Развивающиеся кризисы</a:t>
            </a:r>
            <a:endParaRPr b="0" lang="en-US" sz="3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удовлетворенность служащих и низкие моральные качества, значительные злоупотребления на работе, назначение завышенной цены по государственным контрактам компан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этом случае остается больше времени для исследования и планирования, но и эти кризисы могут происходить неожиданно, назревая в течение длительного времен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262626"/>
                </a:solidFill>
                <a:uFillTx/>
                <a:latin typeface="Impact"/>
              </a:rPr>
              <a:t>Устойчивые кризисы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дезинформация, слухи, толки, предположения, высказываемые в средствах массовой информации и устно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которые, несмотря на усилия администрации, продолжают существовать месяцами или даже годам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55920" y="0"/>
            <a:ext cx="7588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Классификация кризисов - подход С. Блэка:</a:t>
            </a:r>
            <a:r>
              <a:rPr b="1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известное неизвестное» -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известно, что авария может произойти, но </a:t>
            </a: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известно,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изойдет ли она, и если да, то когда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неизвестное неизвестное»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- случаются катастрофы и аварии, которые никто не способен предвидеть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управления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С точки зрения пиара, маркетинговых коммуникаций и комьюнити-менеджмента, 2020-2021 гг. показали большое количество примеров и ситуаций, когда бизнес демонстрировал в основном неудачные примеры антикризисных коммуникаций и слабого маркетингового взаимодействия.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i="1" lang="ru-RU" sz="2300" spc="-1" strike="noStrike" u="sng">
                <a:solidFill>
                  <a:srgbClr val="262626"/>
                </a:solidFill>
                <a:uFillTx/>
                <a:latin typeface="Impact"/>
              </a:rPr>
              <a:t>Д. Ньюсом, А. Скотт («Это ПР»)</a:t>
            </a:r>
            <a:r>
              <a:rPr b="0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55640" y="1341360"/>
          <a:ext cx="8280360" cy="5516640"/>
        </p:xfrm>
        <a:graphic>
          <a:graphicData uri="http://schemas.openxmlformats.org/drawingml/2006/table">
            <a:tbl>
              <a:tblPr/>
              <a:tblGrid>
                <a:gridCol w="2741760"/>
                <a:gridCol w="1868400"/>
                <a:gridCol w="367020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ы кризи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руш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строфические - внезапные человеческие жертвы и разруш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разрушительны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жиданные у грозы, но потери, если случаются, отсроче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род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трясения, лесные пожары, ураганы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ухи, эпидемии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ы терроризма, в том числе умышленная порча продуктов, что приводит к человеческим жертвам или повреждению собст­в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 использования взрывчатки, отравления продуктов, насильствен­ных захватов, разглашение секретов, умышленные слухи и другие злонамеренные дей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ывы, пожары, отравления, другие ава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на производстве с отсроченными последствиями, биржевые крахи, банкрот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31640" y="475920"/>
            <a:ext cx="765972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расположению источника кризисы можно подразделить на внешние, внутренние и смешанные (последний вариант наиболее распространен)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направленности воздействий — на непосредственные и косвенные, т.е. непосредственно касающиеся базисного PR-субъекта и косвенно затрагивающие его интере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3920" y="0"/>
            <a:ext cx="7659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Ученые выделили восемь типов кризисов, вызванных либо управленческими ошибками, либо природными силами: 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9040" y="1125360"/>
            <a:ext cx="74646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иродные и технологические кризисы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онфронтация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доброжелательность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скажение управленческих ценносте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ман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лохое исполнение управленцами своих обязанностей (должностные преступления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еловые кризисы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экономические кризи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0" name="Picture 3" descr="Снимок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42920" y="1412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2" name="Picture 3" descr="Снимок_2"/>
          <p:cNvPicPr/>
          <p:nvPr/>
        </p:nvPicPr>
        <p:blipFill>
          <a:blip r:embed="rId1"/>
          <a:stretch/>
        </p:blipFill>
        <p:spPr>
          <a:xfrm>
            <a:off x="684360" y="549360"/>
            <a:ext cx="8064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Экономически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ражают острые противоречия в экономике страны или экономическом состоянии отдельного предприятия, фирмы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роизводства и реализации товара, взаимоотношений экономических агентов, кризисы неплатежей, потери конкурентных преимуществ, банкротства и п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Социальны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ют при обострении противоречий или столкновении интересов различных социальных групп или образований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ботников и работодателей, профсоюзов и предпринимателей, специалист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личных профессий, персонала и менеджеров и д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Организационны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являются как кризисы разделения 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нтеграции деятельности, распределения функций, регламент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функционирования отдельных подразделени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ак отделение административных единиц, регионов, филиалов или дочерних фирм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Психологически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сихологического состояни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челове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ни проявляются в виде стресса, приобретающего массовый характер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в возникновении чувства неуверенности, паники, страха за будущее, неудовлетворенности работой, правовой защищенностью и социальным положением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в социально-психологическо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имате общества, коллектива или отдельной социальной групп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Impact"/>
              </a:rPr>
              <a:t>Технологический кризис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ет как кризис новых технологически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идей в условиях явно выраженной потребности в новых технологиях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ожет быть кризис технологической несовместимости изделий или кризис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торжения новых технологических решений. В более обобщенном плане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акие кризисы могут выглядеть кризисами научно-технического прогресса —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острение противоречий между его тенденциями, возможностями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следствиям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в настоящее время переживает явный кризис идея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ирного использования атомной энергии, строительства атомны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лектростанций и кораблей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photo_2020-07-15_16-31-11-736x1024"/>
          <p:cNvPicPr/>
          <p:nvPr/>
        </p:nvPicPr>
        <p:blipFill>
          <a:blip r:embed="rId1"/>
          <a:stretch/>
        </p:blipFill>
        <p:spPr>
          <a:xfrm>
            <a:off x="25092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18920" y="228600"/>
            <a:ext cx="737244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Причины возникновения кризисов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47640" y="1267920"/>
            <a:ext cx="73454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могут быть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объективными и субъективным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бъективный кризис вызывают обстоятельства, находящиеся вне контроля базисного PR-субъект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апример, избрание нового губернатора, стихийные природные явления, теракты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дним из признаков объективного кризиса является то, что он негативно сказывается на  широкой аудитории, а не только на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базисном PR-субъекте. К признакам такого кризиса относится также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еожиданность,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паническое состояние жертв воздействий и кажущаяся безысходность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сновные проблемы у организации возникают не в результате самих объективных кризисов, а в результате адаптации к новым условиям. Таким образом, вторичное порождение объективного кризиса — это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кризис адаптации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В результате преодоления объективных кризисов у организации вырабатывается «антикризисный иммунитет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3929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Сферы протекания кризисных процессов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8692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деляются на природные, общественные, экологически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ервые вызваны природными условиями жизни и деятельности человека. К причинам таких кризисов относят землетрясения, ураганы, пожары, климатические изменения, наводнения. Это отражается на экономике, психологии человека, социальных и политических процессах. Природные кризисы включают в себя последствия любых стихийных бедствий. Например, наводнениеуничтожило весь урожай на полях базисного PR-субъе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692360" y="475920"/>
            <a:ext cx="729936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чиной кризисов могут быть общественные отношения во всех формах их выражен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законодательные (принят новый закон об ипотеке) или политические, которые обычно бывают вызваны сменой каких-либо ключевых политических фигур, от Президента РФ до депутата местного самоуправления, а также приходом к власти новых политических сил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Экологические кризисы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ризисы взаимоотношения человека с природой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возникающие при изменении природных условий, вызванных деятельностью человека, — истощение ресурсов, загрязнение окружающей среды, возникновение опасных технологий, пренебрежение требованиями законов природного равновес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3760" y="228240"/>
            <a:ext cx="731988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 менеджмента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895040" y="1341360"/>
            <a:ext cx="7248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дикальные технологические трансформации вызвали негативные изменения глубинных основ функционирования общества,  воспроизводства действительной жизни населения, его материального благополучия, физического, духовно-нравственного и психического здоровья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обрели опасный характер депопуляционные процессы, обнищание населения, разрушение трудового потенциала, массовые социопат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худшилась социально-экологическая ситуация, обострились угрозы техногенных аварий и катастроф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Понятие и функции антикризисного менеджмента. 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е PR</a:t>
            </a:r>
            <a:br>
              <a:rPr sz="2800"/>
            </a:b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являются важной частью антикризисного менеджмента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й менеджмент - деятельность, необходимая для преодоления состояния, угрожающего существованию предприятия, его репут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этих целях осуществляется ряд информационно-технологических действий, направленных на достижение доверия к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антикризисный менеджмент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узком смысле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- решение задач по разработке и проведению мероприятий, которые ведут к ослаблению и преодолению кризисного процесс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широком смысле включает не только стратегию и тактику преодоления кризиса, но и его профилактику. Согласно этой точке зрения, например, PR-план по выходу из кризисной ситуации нужно разрабатывать до того, как кризис наступил. Во время кризиса базисный PR-субъект может использовать подготовленные заранее сценарии поведения и трактовки самых разных кризисных случаев, которые могут с ними произойт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Impact"/>
              </a:rPr>
              <a:t>Характеристики кризисо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незапное возникновение новых действующих лиц, высказывающихся на тему и требующих объяснен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еренасыщение коммуникационных каналов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рост неопределенности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собое значение превентивный антикризисный менеджмент приобретает в потенциально опасной отрасли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числу таких отраслей эксперты относят потенциально аварийные, — энергетику, химическое производство, добычу природных ресурсов, транспорт;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вязанные с сохранением здоровья и жизни людей, — здравоохранение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изводство продуктов питания, а также других товаров и услуг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трасли, связанные с благосостоянием населени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банкротств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тановка производства или его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Забастовка занятых или её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террористического а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течка значимой конфиденциальн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ерьезный несчастный случай, сопровождающийся фатальным исходом и ранениями, или ограничивающий способность организации функционировать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теря значимого потребителя или рын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Банкротство крупнейшего поставщика или задержка поставок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ногласия в отрасл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photo_2020-07-15_16-31-04-2-1024x768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31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744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желательное или враждебное поглощение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теря финансовой поддержки или покровител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начение в госадминистрации чиновника, враждебного для компан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зменение государственного регулирования, несущее серьезные негативные последствия для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539640" y="1720800"/>
            <a:ext cx="8425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упный дефект продукта, требующий отзыва продукта с ры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запная болезнь, похищение, смерть и другие причины, затрагивающие способность ключевых менеджеров функционир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наружение криминальной или недобросовестной деятельности, имеющей отношение к менеджменту и грозящей целостности организ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льсификация продукта, компрометирующая орган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618920" y="404640"/>
            <a:ext cx="737244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качестве кризисных могут выступать явления, имеющие косвенное отношение к деятельности организации. Если в 80-х годах в качестве главных кризисных явлений выступали отзыв недоброкачественной продукции, вопросы здоровья, безопасности и другие "осязаемые" проблемы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о в 90-х годах кризисный список существенно пополнился: в нем ключевыми были обвинения компаний в расовой и другой дискриминации, должностные преступления, нарушения трудового и торгового законодательства, проблемы сексуальных притязаний и т.д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функциям антикризисного менеджмента относятся исследование и анализ с точки зрения кризисных последств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гативных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общественных тенденций, представляющих угрозу репутации и прибыли компании (например, негативное восприятие продукта потребителями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йтральных (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кажем, нововведения в процесс упаковки продуктов)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ложительных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(например, выход на новые рынки) тенденци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63280" y="228240"/>
            <a:ext cx="698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62626"/>
                </a:solidFill>
                <a:latin typeface="Impact"/>
              </a:rPr>
              <a:t>антикризисный менеджер управляет: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402920" y="907920"/>
            <a:ext cx="7588440" cy="53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ктивами (пассивами) предприятия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апами бизнес-процесса (сбыт, производство, снабжение, учет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граммами защиты имущества и безопасности бизнеса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кадрами (включая вопросы формирования кадровой политики,  социальные вопросы, отношения с профсоюзами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построения отношений с акционерами, партнерами, органами государственной власти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информационной поддержки (включая доведение до сведения трудового коллектива информации о планах, методах и принципах  управления, а также доведение социально-значимых аспектов деятельности до широкой общественности</a:t>
            </a:r>
            <a:r>
              <a:rPr b="0" i="1" lang="ru-RU" sz="2400" spc="-1" strike="noStrike">
                <a:solidFill>
                  <a:srgbClr val="72605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трашен не сам кризис, а неправильное поведение в критической ситуац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.е.неумение выстроить эффективные коммуник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02920" y="549360"/>
            <a:ext cx="758844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новой антикризисного PR является стратегия антикризисного менеджмен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спех преодоления кризисных явлений зависит не только от действий руководства организац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й PR  должен обеспечить поддержку выработанной стратегии выхода из кризиса со стороны внешней сред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е связи с общественностью являются одним из важнейших рычагов преодоления кризиса наряду с экономическими, финансовыми, юридическими и прочими рычагами и необходимой частью собственно антикризисного менеджмен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547640" y="404640"/>
            <a:ext cx="744408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ные PR является видом антикризисных PR. Ведь конфликт - частный, локальный вид кризис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 взаимного доверия между сторонами, связанными в процессе деятельности; период, когда согласия не удаётся достигнуть путём переговоров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 – острая форма конкурентной борьбы (и в бизнесе, и в политике, и в личных отношениях)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258920" y="259920"/>
            <a:ext cx="7564320" cy="593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д кризисом может подразумеваться и любое изменение в компании, даже рост ее доходов или количества филиалов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Любое изменение – в лучшую или худшую сторону – это уже кризис, поскольку требуются разъяснения для общественности – внутренней или внешне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акие кризисы получили название обыкновенных», они составляют львиную долю кризисов любой компании. И именно на «обыкновенные» кризисы компании, как правило, вообще не реагируют. Среди «обыкновенных» выделяют, в частности, кризисы роста, кризисы зрелости и кризисы спада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751536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Переход от стадии формирования организации к ее интенсивному росту,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ак правило, сопровождается первым кризисом роста.</a:t>
            </a:r>
            <a:br>
              <a:rPr sz="24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99760" y="15238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Стадия формирования характеризуется, с одной стороны, наличием в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рганизации специалистов-разработчиков («новаторов», «творцов»), готовых, основываясь на потребностях рынка, создавать и предлагать новый (или нужный) продукт, а с другой стороны, превалированием внутри организации тесных, доверительных, почти «семейных» отношений, свойственных организационной культуре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днако для эффективного функционирования организации на стадии интенсивного роста на смену «творцам» (или в дополнение к ним) должны прийти «продавцы», коммерсанты, специалисты, способные обеспечить продвижение товара на рынке. Изменение профессионально-ролевого состава организации ведет к появлению новых организационно-культурных норм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Нормальные условия существования и профессионального развития «продавцов» — это постоянная конкуренция друг с другом, характерная для  предпринимательской организационной культуры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49440" y="1125360"/>
            <a:ext cx="669456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4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«Знайте о худшем и готовьтесь к нему» 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Следующая кризисная ситуация ожидает организацию, переходящую от стадии интенсивного роста к стадии стабилизации. Ее называют 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ризисом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зрелости.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стадии стабилизации необходимы специалисты, способные создавать эффективные технологии, фиксировать ( в технологических схемах) наиболее удачные подходы, обнаруженные в ходе интенсивного роста организации. Это означает, что «продавцов» должны сменить (или дополнить) «технологи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редой их функционирования должны стать правила строгой иерархии, подчиненности, определенности, детерминируемые профессиональной деятельностью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акой тип отношений характерен для бюрократической организационной культуры, вступающей в противоречие с предпринимательской, эффективной для предыдущей стадии, доминантой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Кризис характерен для перехода от стадии стабилизации к с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тадии спада. </a:t>
            </a: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Именно этот этап - собственно кризис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Именно на него реагируют руководители организаци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выживания организации, оказавшейся на стадии спада, необходимы совершенно особые специалисты, способные объединить в себе навыки разработчиков, продавцов и технологов. С точки зрения изменения норм и правил можно предположить, что персонал организации будет нуждаться в совершенно особом стиле отношений — ориентированном на лидер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преодоления собственно кризиса особое значение будет иметь то, что принято называть харизмой лидера. При этом в зависимости от специфики организации это может быть харизма вождя, суперпрофессионала или коммуникатора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Факторы, усложняющие управление в условиях кризиса:</a:t>
            </a:r>
            <a:br>
              <a:rPr sz="3000"/>
            </a:b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30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3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Внезапность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Кризис является неожиданны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достаточность информации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Слухи, трудно постичь все, много обращений за разъяснение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Эскалация событий.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ризис разрастается. Все хотят знать, что происходит. Организация пытается реагировать на все аккуратно, но события разворачиваются стремительно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Факторы управления в условиях кризиса: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71280" y="1413000"/>
            <a:ext cx="72723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отеря контроля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верная информация попадает в каналы новостей, газетные полосы и эфир. Расползание слухов трудно контролировать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арастание вмешательства внешних си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МИ, общественные организации и население питаются слухами. Все стараются высказать свою точку зрения и ждут реакции организации. Все требуют отве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Ментальность загнанного в уго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Лучше всего молчать. И сидеть как в осаде. «Все, что вы скажите, может быть использовано против вас»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аника.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специалисты Ogilvy PR выделяют восемь характеристик, лежащих в основе кризисов</a:t>
            </a: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1. Неожиданность, обусловленная разоблачением в средствах массов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2. Недостаток информации об относящихся к делу фактах и стихийно формирующееся общественное представление о проблем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3. Прогрессирующий поток событий, мешающий топ-менеджерам быстро осознать то, что, нравится им это или нет, они «владеют» проблемой и должны быстро сформулировать убедительный ответ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4. Потеря контроля над восприятием развивающегося кризиса и над воздействием, которое он начинает оказывать на компан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1040" y="765000"/>
            <a:ext cx="7392960" cy="55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5. Пристальный надзор со стороны как внешних, так и внутренних аудиторий, включая медиа, правительство, регулирующие органы, группы активистов, ключевых стейкхолдеров, а главное – саму управленческую команду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6. Психология «начала осады», обусловливающая попытки руководства компании «спрятаться» за юридическими аспектами кризиса, вместо того, чтобы бороться с основной проблемой, и, таким образом, позволяющая кризису причинить организации еще больший вред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7. Паника, осложняющая и/или парализующая процесс принятия решений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8. Публичное разрешение проблемы, сконструированное таким образом, чтобы удовлетворять интересам аутсайдеров – СМИ, правительства, регулирующих инстанций и групп влияния – но отнюдь не интересам самой компании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нестабильный или переломный период или положение дел, при котором субъекту угрожают решительные перемены…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ловарь Вебстера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прекращение нормального процесса, внезапное серьезное происшествие, ставящее под угрозу стабильность организации и обладающее потенциалом повредить или разрушить ее репутацию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Кризис </a:t>
            </a: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— </a:t>
            </a: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это событие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 вине которого компания попадает в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нтр не всегда доброжелательного внимания СМИ и других внешни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левых аудиторий, в том числе акционеров, политиков, профсоюзны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организаций, движении в защиту окружающей среды, которые по той или иной причине вполне законно интересуются действиями организ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М. Роджестер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ная ситуация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предвиденное, экстремальное, катастрофическое положени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22:28Z</dcterms:created>
  <dc:creator>user</dc:creator>
  <dc:description/>
  <dc:language>en-US</dc:language>
  <cp:lastModifiedBy>User</cp:lastModifiedBy>
  <dcterms:modified xsi:type="dcterms:W3CDTF">2022-12-20T19:32:01Z</dcterms:modified>
  <cp:revision>31</cp:revision>
  <dc:subject/>
  <dc:title>ПР управление кризисом и возможностями</dc:title>
</cp:coreProperties>
</file>