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4AA-D025-49F0-9D4D-D8D8533D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42A-11BB-4632-8896-8911F4CC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F3B-AC77-4E22-A60C-BB356020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6A4-EF72-48B9-B760-CE5BB956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2B9-3C1B-40C7-A509-A933563A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19FF-537E-4F50-971A-619A7B9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66DE-DA5F-43BB-95FE-209D9BF0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A2B5-8E7E-4022-9155-62053AF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D5DA-631E-482E-BCB5-1E640C4D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839-9370-4A5B-A191-4961239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47BA-3B18-470B-A00B-A1247B3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B25-8AE3-464C-9D7B-29B15B3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6C4B-0DDA-490E-9EE1-92ACD05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86DA-82E8-4EF7-A468-D6955B3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0EE-2CBE-427D-BB91-E72E527B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AC1F-A1E6-4134-8368-68FC5CB8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BCFB-A685-48F0-955C-DF7763D0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71B-7A43-42D2-9B98-F42AE9C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C5A-C8B1-4FB0-9D58-5ACBC0F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06F-B4EF-47B9-A551-00085A2D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0BE-AB34-4DD5-B530-78C9A568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239-E3FC-4E60-8F52-12A9A20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3E6-2A21-4FA6-8C74-A493598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B13-4357-49B3-B52F-D188925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625-F811-438E-BDCB-926D805AC4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0F4-1E41-45A7-873F-5435BE71F4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тикризис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ктурные блоки в работе с кризисами-конфликта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иков А.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управления информационным п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006633"/>
                </a:solidFill>
                <a:latin typeface="Garamond"/>
              </a:rPr>
              <a:t>меры для нейтрализации конфликтного потенциала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ЦБ начали готовить пресс-пакеты со специальной информацией для журналистов, представленной в виде максимально готового для любого употребления продукта: просто почитать, войти в определенную проблему, полностью или частично использовать в публикац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окая степень готовности вспомогательных материалов уменьшала вероятность того, что будет сделана какая-то ошибка или допущена неточность в публ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сей стране были организованы циклы образовательных семинаров для журналистов. Подготовленный специалист ЦБ выезжал в регион, где собирались руководители территориальных учреждений ЦБ, представители коммерческих банков, инвестиционных организаций, журналисты местных С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аивалась обстоятельная дискуссия по проблеме, преследовавшая две цели: образовательно-информационную и прикладную, поскольку журналисты готовили по итогам семинара публицистические материа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лись и другие мероприятия для СМИ: пресс-конференции, в том числе селекторные, прямые эфиры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ый блок гипотез был направлен на определение того, какие категории населения могут болезненно воспринять сообщения о деноминации. В частности, предполагалось и впоследствии подтвердилось исследованиями, что в наибольшей степени подвержены страхам пожилые люди, т.е. те, которых государство неоднократно обворовывал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конфликтогенных групп начали готовить телевизионные сюжеты, причем первоначально планировалось участие в разъяснительных роликах политиков, экономистов, банкир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естирование в фокус-группах показало, что их появление на экранах в заданной роли вызывает у людей высокую степень раздражения, а, скажем, образы известных актеров, напротив, действуют на аудиторию благоприят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 эти персонажи и фигурировали в роликах в качестве основ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ие формы PR-воздействия подбирали для молодежи, людей с низким образовательным уровнем и, наоборот, групп с повышенными интеллектуальными запросами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го рода деятельность во многом способствовала тому, что деноминация осуществилась спокойно и безболезнен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зитивная компенс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разработчики информационной стратегии табачных компаний всегда отдавали себе отчет в том, что они могут получать упреки в причинении вреда, обусловленного воздействием никотина на организм. Поэтому реальные и потенциальные нападки постоянно компенсировались мероприятиями в рамках программы корпоративной социальной ответств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еждающее обостр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разработке концепции развития имиджа того или иного руководящего персонажа имеется в виду, что лидера всегда будут в какой-то мере критиковать. Отсюда планируются уровни и позиции допустимой критики, которые затем намеренно закладываются даже в отдельные положительн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евдоконфли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ликты инициируют специально для того, чтоб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ослабить какой-то другой, более важный и опасный конфлик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набрать дополнительный «вес» в конкурентной борь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04 году Центробанк России сделал заявление о наличии некоего "черного списка" банков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орые вовлечены в операции по "отмыванию" денег. Информация была быстро подхваче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 несколько месяцев операционную деятельность по разным причинам прекратил цел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яд банковских учреждений, а в прессе стали появляться публикации с рассуждениями о том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роблемы у каких банков возник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езультате запаниковавшие вкладчики бросилис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мать деньги с депозитных счетов, ввиду чего о своей платежеспособности сразу объяв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ще несколько бан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се были готовы к работе в таком режиме. Одну из наиболее грамотны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тегий кризисного реагирования выбрал тогда Альфа-Бан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и акционеры банка отвечали на вопросы представителей СМИ. Был организова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тивный доступ журналистов к информации, выпущены телевизионные ролики дл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ъяснения позиции финучреж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тличие от других банков, сокращавших количеств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чих часов, отделения Альфа-Банка работали до позднего вечера, обслуживая вкладчиков. Ег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разъясняло свою позицию относительно кризиса и почему было приня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опулярное, но действенное решение о введении временной 10%-ной комиссии за досрочн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ятие средств с депозитных сче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последствии комиссия вкладчикам была возвращена. П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ным открытых источников, акционеры Альфа-Банка вложили около $200 млн. личных средств,чтобы "удержать" свое детище на пла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, несмотря на потери в результате кризиса более чем $9 млн., упомянутое финансов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реждение сохранило доверие большинства клиентов и устояло в сложившейся ситуации, в 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ремя как целый ряд других банков прекратили свое сущ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вова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грация оппозиционной эл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отправлять оппонента в отставку, не подвергать беспощадной крити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лучший нейтрализующий эффект дает приобщение оппозиционера к каким-либо руководящим должностям или орга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я некоторый статус и права, он берет на себя и долю ответственности, отсюда оппозиционные проявления, как правило, все более и более ослабляю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структурные блоки в работе с кризисами-конфликтами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– Чумиков А.Н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й блок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универсальный цикл действий по управлению конфликтом или кризи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мнит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антикризисного PR зависят от характера кризи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компания подверглась нападкам конкурентов, PR может быть построен по принципу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бовой ата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ких случаях пиарщики настаивают на агрессивной политике, предполагающей привлечение внимания общественности и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упный холдинг и небольшой банк – невозврат креди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ritish Airways (BA) и Virgin Atlantic (V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рупный холдинг задолжал небольшому банку более 20 млн. долл. Для банка это была огромная сумма. Эта ситуация поставила его под угрозу гибе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сновных деловых изданиях банк купил рекламные полос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убликовали: кредитный договор и лишь одну фразу: «Долги надо платить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результат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по догово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за то, чтобы банк снял все запланированные публикации такого 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2000 году, когда ВА запустила в Лондоне колесо обозрения British Airways London Ey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есо собирали на земле, и поставить его в вертикальное положение удалось не сраз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VA попыталась превратить акцию конкурента в публичное посмешище. VA тут же запустила над стройплощадкой дирижабль со слоганом "ВА не может подняться!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Отвлекающие маневры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я - цель которой  переключить внимание общественности с возникшей пробл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ституционализа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, т.е. установления норм и правил его разреш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гитим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снение уровня готовности участников конфликта добровольно соблюдать предложенные нормы и прав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ведение институциональной процедуры в соответствие с уровнем легитим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ентство PR-Impact:  к ним обратилась крупная табачная комп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 из провинциальных городов появились объявления, в которых поклонникам сигарет, выпускаемых этой компанией, рекомендовалось срочно пройти флюорограф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не стало выяснять, кто из конкурентов предпринял акцию с расклейкой объявл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рез несколько дней в тех же местах развесили похожие объявления, но кроме марки клиента там были указаны марки многих других конкурирующих компаний. В итоге предпринятый конкурентами ход потерял смыс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переключило внимание с имени нашего клиента, и антиреклама стала напоминать акцию Минзд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зис: Коровье бешенство в ряде областе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роны, которые могут использовать с пользой для себя кризис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говядины из «чистых» областе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импортер говядины из друго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поставщик вакцин для крупного рогатого ско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-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ирование конфликтующих груп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предполагает создание условий для проявления и организационного закрепления индивидуальных и коллективных субъектов — носителей имеющихся в обществе интере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ующая управленческая задача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дук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 - его постепенное ослабление за счет перевода на другой уров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обществе периодически возникают конфликты, определяемые требованиями получения дополнительных прав теми или иными нац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, исходя из показанных выше действий, таким конфликтом можно управлять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атывается проект закона, например. "О национально-культурной автономии", который затем тестируется на предмет потенциальной готовности его выполнять и корректируе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раллельно стимулируются собрания общественных объединений национального профиля с высказыванием мнений о законе, а также образование новых структур подобного типа с вовлечением их в процес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ле этого начинают постепенно реализовываться прямые мероприятия по расширению прав наций - открытие национальных школ, выпуск соответствующих СМИ и т.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реализации любого проекта изучаются специфические условия - политические, экономические, культурные и п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осуществляетс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блемное прогнозиров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следование, формирование баз данных по проблемам, вокруг которых в перспективе возможен конфлик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верка конфликтных гипотез с определением уровня реальной опас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 цик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йтрализация конфликтного потенциал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работка коммуникационной стратегии, создание и распределение оптимальных информационных пото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ы PR-воздействия, принятые Центробанком (ЦБ) РФ в 1997 году в преддверии деноминации рубля с учетом атмосферы недоверия к финансовым реформам, господствующей в российском обще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а выдвинута гипотеза о том, что журналисты, особенно на периф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первых, недостаточно грамотны экономическ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вторых, не всегда имеют под рукой необходимое количество вспомогательных материалов, поэтому они попадают в плен к доминирующему обывательскому мн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дтверждения гипотезы использовались ранее опубликованные материалы, большинство из которых сводилось к тому, что денежная реформа обязательно связана с какими-то ограничениями: например, наличные деньги меняются в одном масштабе, а безналичные - в другом либо действуют ограничения по вкладам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22:49:06Z</dcterms:created>
  <dc:creator>admin</dc:creator>
  <dc:description/>
  <dc:language>en-US</dc:language>
  <cp:lastModifiedBy>User</cp:lastModifiedBy>
  <dcterms:modified xsi:type="dcterms:W3CDTF">2022-12-20T19:13:20Z</dcterms:modified>
  <cp:revision>5</cp:revision>
  <dc:subject/>
  <dc:title>Антикризисный PR</dc:title>
</cp:coreProperties>
</file>