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F7D-62C2-4F72-B2BB-E3017A39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EF5E-3D6F-428C-8445-41181594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FCA-9279-4602-9819-DFCC9C38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B45-19D6-4968-9CAF-47205C56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A34A-55A2-4B82-AE42-3F00D61F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CA30-8D8B-48A6-AD5B-951CC7BC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67BC-C631-44A0-B5C7-C9A6C05A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1911-B5ED-48F4-B830-F3870554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4C2D-86D9-480C-A275-489BC788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566B-96F0-443F-87C7-3FD04872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B8B9-2B83-41F6-969F-6CCEA8B7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8C8-9083-4D43-B1A5-AC34DA28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00AE-7924-4417-9300-F768CF2F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3A39-1976-4BC3-9CA6-807AAD1F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9401-2885-49F7-B8F2-7A45528E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D4C1-CF1A-40ED-A75F-8BB860B0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FA35-C99E-4813-9A0C-59DB0548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DB1-3EDF-4641-AFF4-06D5BB1D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751-2A21-4966-90E7-655D35D6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8430-4FE7-4791-8EF7-DCC89585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14F-4091-4EF7-A93C-C4A16C34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45F-A4D4-4109-B471-C9844F5E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940-E8F1-4F8F-B9D4-21FDB5BD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3F6-8F2B-4DAA-80F5-75F9C6F8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50DF-9C9D-472B-9FAA-1A6E0D7A56B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4BCD-7ABE-4A51-8D4B-4C4A6FF1DA8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Tahoma"/>
                <a:ea typeface="Tahoma"/>
              </a:rPr>
              <a:t>«Черный»</a:t>
            </a:r>
            <a:r>
              <a:rPr b="1" lang="en-US" sz="4600" spc="-1" strike="noStrike">
                <a:solidFill>
                  <a:srgbClr val="006633"/>
                </a:solidFill>
                <a:latin typeface="Tahoma"/>
                <a:ea typeface="Tahoma"/>
              </a:rPr>
              <a:t> PR</a:t>
            </a:r>
            <a:r>
              <a:rPr b="1" lang="ru-RU" sz="4600" spc="-1" strike="noStrike">
                <a:solidFill>
                  <a:srgbClr val="006633"/>
                </a:solidFill>
                <a:latin typeface="Tahoma"/>
                <a:ea typeface="Tahoma"/>
              </a:rPr>
              <a:t>: </a:t>
            </a: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понятие, технологии, примеры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ированные коммун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рный PR - это целенаправленная деятельность, имеющая целью разрушение или ухудшение имиджа конкретного лица или орган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рмин "черный PR" возник в начале 90-х годов и обозначал распространение информации политического или коммерческого характера, оплата за которое производилась неофициально (в теневой форме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черного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сет заведомо ложную информацию, а если она правдива, то добыта, как правило, нечестным путем (подкуп, шпионаж и прочее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ет привести к полному уничтожению организации или разрушению репутации человека (проще начать работу над чем-то новым, чем попытаться "отмыться" от черного пиара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image-6"/>
          <p:cNvPicPr/>
          <p:nvPr/>
        </p:nvPicPr>
        <p:blipFill>
          <a:blip r:embed="rId1"/>
          <a:stretch/>
        </p:blipFill>
        <p:spPr>
          <a:xfrm>
            <a:off x="1143000" y="404640"/>
            <a:ext cx="738972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собенности </a:t>
            </a:r>
            <a:r>
              <a:rPr b="1" lang="ru-RU" sz="4200" spc="-1" strike="noStrike">
                <a:solidFill>
                  <a:srgbClr val="006633"/>
                </a:solidFill>
                <a:latin typeface="Arial"/>
              </a:rPr>
              <a:t>черного 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P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я, представляемая на всеобщее обозрение, часто не соответствует морально-этическим нормам, принятым в обществ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ью черного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не является улучшение собственной репутации,  речь идет о "потоплении" конкурен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черного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убликация компрометирующей информации в СМИ происходит платн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рометирующая информация, как правило, содержит какую-то новую завуалированную идею, которую нужно навязать аудитор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черного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некоторых случаях, может быть полезен для объекта, на который он направлен (повышается узнаваемость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рометирующая информация практически всегда распространяется анонимн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готовка черно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кампании требует значительных материальных влож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image-4"/>
          <p:cNvPicPr/>
          <p:nvPr/>
        </p:nvPicPr>
        <p:blipFill>
          <a:blip r:embed="rId1"/>
          <a:stretch/>
        </p:blipFill>
        <p:spPr>
          <a:xfrm>
            <a:off x="684360" y="549360"/>
            <a:ext cx="736272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руктура PR-кампании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конечных целей и детализация их на конкретные задачи (то, чего вы хотите добиться в итоге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целевой аудитории (в каких кругах будет распространяться информация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руктура черной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мпани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стонахождение и контакты (где и как вы можете связаться с представителями целевой аудитории, чтобы донести до них нужные сведения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отка схемы работы со СМИ (анализ методов донесения сведений до целевой аудитории, выбор приоритетных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руктура черной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мпании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информационной составляющей (каким должно быть сообщение, чтобы вызвать резонанс в обществе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анирование событий, в ходе которых будет распространена компрометирующая информац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logo-1"/>
          <p:cNvPicPr/>
          <p:nvPr/>
        </p:nvPicPr>
        <p:blipFill>
          <a:blip r:embed="rId1"/>
          <a:stretch/>
        </p:blipFill>
        <p:spPr>
          <a:xfrm>
            <a:off x="2355840" y="2158920"/>
            <a:ext cx="44323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руктура черной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мпании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анирование побочных событий, которые будут спровоцированы для увеличения резонанс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посредственное создание событий, распространение информ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руктура  черной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кампании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результа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дение корректирующих мероприят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вершение прое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Технологии черного PR</a:t>
            </a: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омпрома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Цель - вызвать сомнения в компетентности конкурента путем запуска какой-то информации и донесения ее до широкой аудитор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этом обвинения должны быть восприняты публикой, как достоверные. Чаще всего требуется искусственное создание какого-то резонансного события, которое широко тиражируется через С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Технологии черного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"Плохая похвала"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Нужно публично похвалить противника таким образом, чтобы на аудиторию информация возымела обратный эффек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рирование успехов, чрезмерное употребление хвалебных эпитет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этом информация не подтверждается какими-либо фактами. Таким образом, происходит ухудшение имидж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ейсы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«плохая похвала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 мероприятие, организованное главой района, конкуренты пригласили бизнесмена, который должен был выступить с хвалебной речью. В конце праздника человек начал рассказывать аудитории об успехах местного руководителя, о том, что ему удалось сделать и построить, что вызвало одобрение аудитории. Позже оратор в таких же позитивных тонах начал рассказывать о капитальном строительстве, которое планируется вести, что вызвало у слушателей негативные эмоции, ведь их уютные дворы превратятся в колодцы. Так в результате использования метода "плохой похвалы" глава района утратил доверие гражда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войная аудитория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начала нужно оказать влияние на одну группу лиц, которые распространят свою негативную реакцию на другие сегмен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имер, чтобы добиться реакции властей, разрабатывается PR-кампания, направленная на вызов недовольств среди населения. На это реагируют СМИ. Тогда, у органов власти не остается другого выхода, как отреагир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войная аудитор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мер Public Relations по принципу двойной аудитории: скажем, руководители компании, которую требуется дискредитировать, были замечены в высказывании националистских ид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ои убеждения они высказывали только в частных беседах. Но информация была донесена до общественных организаций и национальных общин. Их негодование вызвало интерес СМИ. Как результат, компания разорилас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"Крючок и наживка"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объекта, который нужно скомпрометировать, искусственно создается ситуация, в которую он должен попасть. Дальше все развивается так, что он сам портит свою репутаци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ичный пример использования метода "крючка и наживки"- это уже реальная ситуация с американским президентом Биллом Клинтон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го познакомили с Моникой Левински, после чего завязался роман. Позже он был обвинен в сексуальных домогательствах, а внебрачная связь с Левински послужила аргументом против нег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бщественное возмущение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ь - это поиск объекта или ситуации, на которую общественность отреагирует возмущение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мощи средств массовой информации состояние недовольства нужно подогревать как можно дольш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"/>
              </a:rPr>
              <a:t>Разноцветный  </a:t>
            </a: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PR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ел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выстраивание тесных связей межу субъектом и общественностью с целью формирования положительного отношения к его личности или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дминистративный ресурс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мощи неправдивой информации органы местной или государственной власти настраиваются против определенной орган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ходе проверок, проводимых этими структурами, обнаруживаются многочисленные нарушения, что нередко приводит к уничтожению предприят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834920" y="177336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ей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элитный ночной клуб проникают два молодых человека презентабельного внешнего вида. Будучи уже в помещении, они переодеваются в бродяг, начинают дебоширить, донимать гостей и драться с охраной. Результат - репутация клуба разрушена, он теряет кли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уководитель условной сети супермаркетов захотел устранить крупного конкурента. Для этого была нанята большая группа людей для создания искусственных очередей на кассах. При этом у каждого участника данной "акции" достаточно большое количество товаров. У остальных покупателей создается негативный образ магазина. Боясь больших очередей, они начинают обходить его сторон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Способы противодействия 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черному P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Дезорганизация атаки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Если у вас есть информация о том, что на вас готовится компромат, вы должны сами себя очернить, используя СМИ и прочие средства распространения информации. Обвинения должны быть весомыми и грубыми. Но через короткое время выходит опровержение с железобетонными доказательствами. Таким образом, к любым новым обвинениям у публики выработается иммунит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етод вспышки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На фоне информационной атаки со стороны конкурентов должно быть искусственно создано событие, которое по своей значимости перекроет компрометирующий материал. Важно, чтобы этот процесс протекал в другой информационной плоскости и имел позитивный оттен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онтратак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В ответ на информационную атаку, вы организуете свою войну с источником негативных и неправдивых сведений о вас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силение белого пиар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Не обращая внимания на компромат, нужно как можно теснее работать со своей аудиторией, демонстрируя только положительные кач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иемы черного </a:t>
            </a: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PR </a:t>
            </a: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в политике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ловек, являющийся полным тезкой или однофамильцем политика, организует благотворительную акцию, в ходе которой происходит раздача продуктовых наборов или других товаров. Естественно, они будут некачественными, что вызовет негодование у электора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мещение компрометирующего фото- и видеоматериала. Чаще всего скрытая съемка проводится в неформальной обстановке, где политик позволяет себе некоторые вольности, но и смонтированные материалы активно идут в х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ние негативного образа за счет неблагонадежной аудитории. Так, например, профашистские организации или представители ЛГБТ-сообщества могут быть наняты для того, чтобы проводить агитацию за конкурен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ерн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полная противоположность белог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авлен на то, чтобы сформировать негативный образ конкурента в глазах обществен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явление родственников. Это могут быть незаконнорожденные дети, братья или сестры, которые влачат жалкое нищенское существование. Как правило, это наемные люди, которые активно выступают на телевидении и в ходе митинг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законная реклама. Подразумевается проведение агитации за конкурента в так называемые "дни тишины"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андализм и порча имущества. Имеется в виду расклейка листовок конкурента на памятниках архитектуры, дверях и окнах жилых зданий, окнах автомобилей. С целью добиться большей озлобленности аудитории может применяться несмываемый клей или едкая крас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казные статьи. В печатных СМИ местного значения размещаются заметки о коррупционных связях кандидата на избирательную долж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йный агент. В СМИ неугодный кандидат может быть уличен в связях с иностранными спецслужб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монстрация роскоши. Основная цель - предать гласности как можно больше дорогих покупок оппонента, учебу детей за границей, громкие празднования, в которых политик принимал участ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 в политике используются "образ врага", который подразумевает следующе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 врага не приходится ожидать ничего хорошего, а потому нельзя доверять ему и оказывать поддержк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я вина за происходящие негативные процессы возлагается на политического оппонент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ах врага приравнивается к автоматическому наступлению благосостояния народ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ие бы трудности не постигли "плохого" политика, к нему нельзя испытывать сострада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соратники врага автоматически наделяются таким же статус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инструменты черного 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PR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в интернет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умы, блоги, социальные се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подобных ресурсах активно создаются фейковые аккаунты, с которых распространяется компрометирующая информация. "Тролли" принимают активное участие в обсуждении, приводя весомые и убедительные аргумент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зывы. Если раньше человек спрашивал мнение о качестве товаров или услуг о своих знакомых, сейчас он, первым делом, ищет подобную информацию в интернете. Поэтому достаточно часто в борьбе с конкурентами используются фейковые негативные отклики о работе той или иной организ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йты для размещения компромата. В сети есть огромное количество ресурсов, которые специализируются на черном пиаре. На них собрано множество порочащих сведений об известных лицах и организация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йты-клоны. Призваны ввести в заблуждение пользователей. Ресурс представляет собой практически полную копию реального сайта организации, за исключением контента. Страница наполняется текстами с нецензурной лексикой, а также медийными материалами экстремистского или иного оскорбительного содерж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9-black-pr-228x331"/>
          <p:cNvPicPr/>
          <p:nvPr/>
        </p:nvPicPr>
        <p:blipFill>
          <a:blip r:embed="rId1"/>
          <a:stretch/>
        </p:blipFill>
        <p:spPr>
          <a:xfrm>
            <a:off x="1979640" y="260280"/>
            <a:ext cx="4968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ер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положительный или отрицательны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в котором используются данные из скрытых источников. Часто подразумевает воздействие на подсознание аудитор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к бороться с черным </a:t>
            </a: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PR</a:t>
            </a: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в интернете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иск и удаление негативных комментариев и отзывов с разных ресурс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яжело, привлечь к данному процессу большое количество люд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пространение положительных сведений о своей организации. Для эффективной работы в этом направлении придется использовать инструменты SEO и SMM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еется в виду оптимизация ресурсов с положительной информацией, чтобы они стали более доступными для пользовате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онная рассылка. Правильно составленный пресс-релиз позволит укрепить позиции организации на фоне негативной информационной ата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купка страниц с хорошей посещаемостью и репутацией с целью размещения информации о компании и ссылок на ее ресур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ктивизация белого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ети, чтобы затмить тот негатив, который исходит от конкур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атывается PR-проект, реализация которого создаст положительный образ компании в сети, который будет трудно пошатнуть любыми информационными вброс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black-290x275"/>
          <p:cNvPicPr/>
          <p:nvPr/>
        </p:nvPicPr>
        <p:blipFill>
          <a:blip r:embed="rId1"/>
          <a:stretch/>
        </p:blipFill>
        <p:spPr>
          <a:xfrm>
            <a:off x="2340000" y="1484280"/>
            <a:ext cx="41180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Желт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скандальные оскорбительные сведения, которые привлекают внимание общественности и вызывают бурные дискусс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озов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основан на легендах и мифах, которые удовлетворяют потребность аудитории в иллюзия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исходит выработка социального оптимизма и ощущения грядущего благополуч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елен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демонстрируется социальная ответственность и забота об окружающей сред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олот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создание имиджа организации на основе ценовой полити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828x620"/>
          <p:cNvPicPr/>
          <p:nvPr/>
        </p:nvPicPr>
        <p:blipFill>
          <a:blip r:embed="rId1"/>
          <a:stretch/>
        </p:blipFill>
        <p:spPr>
          <a:xfrm>
            <a:off x="1619280" y="1779480"/>
            <a:ext cx="59054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7T21:04:59Z</dcterms:created>
  <dc:creator>admin</dc:creator>
  <dc:description/>
  <dc:language>en-US</dc:language>
  <cp:lastModifiedBy>Дружба Ольга Владимировна</cp:lastModifiedBy>
  <dcterms:modified xsi:type="dcterms:W3CDTF">2022-03-16T09:07:52Z</dcterms:modified>
  <cp:revision>7</cp:revision>
  <dc:subject/>
  <dc:title>«Черный» PR: понятие, технологии, примеры</dc:title>
</cp:coreProperties>
</file>